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AEA-E699-4FD2-8BAA-40947AE8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943-F9E9-48DF-AAB0-775C27C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72C-1AD5-423A-8B33-D303F8A6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4F2D-E18A-4043-97F6-7F2E6A32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49C-E750-4D10-A34E-1AA4F4EB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083-3E22-47ED-92FB-9599324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5EF-A191-438E-9CDC-91C5E87B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032-EB52-4698-A9D7-477E669A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6E5-33B3-4776-BB84-93F55250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12E6-AD5C-4FE6-B025-CD3C3E24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5A92-EEDC-44E7-B047-05D3E886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FFA-06B1-4BA2-885F-0914A1E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C5F-9D4F-4721-A82E-52BEEB91E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buch.com/controll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buch.com/murals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ownpride.com/bpevents/event.asp?b=22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brownpride.com/murals/murals.asp?a=estrada/index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28600" y="190512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Murals of Mexico</a:t>
            </a:r>
            <a:endParaRPr b="0" lang="en-US" sz="3600" spc="1" strike="noStrike">
              <a:ln w="1260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E:\PFiles\MSOffice\Clipart\standard\stddir3\NA01674_.wmf"/>
          <p:cNvPicPr/>
          <p:nvPr/>
        </p:nvPicPr>
        <p:blipFill>
          <a:blip r:embed="rId1"/>
          <a:stretch/>
        </p:blipFill>
        <p:spPr>
          <a:xfrm>
            <a:off x="6934320" y="4800600"/>
            <a:ext cx="166032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PFiles\MSOffice\Clipart\standard\stddir2\BL00834_.wmf"/>
          <p:cNvPicPr/>
          <p:nvPr/>
        </p:nvPicPr>
        <p:blipFill>
          <a:blip r:embed="rId2"/>
          <a:stretch/>
        </p:blipFill>
        <p:spPr>
          <a:xfrm>
            <a:off x="457200" y="304920"/>
            <a:ext cx="16794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ttp://iml.umkc.edu/art/faculty/wahlman/quizzes/Mayan/4BonampakMural/MayaBonampakMusicianB.jpg"/>
          <p:cNvPicPr/>
          <p:nvPr/>
        </p:nvPicPr>
        <p:blipFill>
          <a:blip r:embed="rId1"/>
          <a:stretch/>
        </p:blipFill>
        <p:spPr>
          <a:xfrm>
            <a:off x="1428840" y="1297080"/>
            <a:ext cx="62863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457200" y="533520"/>
            <a:ext cx="83818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enturies later, after the Mexican Revolution, during the 1920s and 1930s another “muralist movement” beg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ew artists used murals to educate the illiterate population of their history and cultur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ese murals can now be found throughout Mexico, on the walls of government buildings, and on structures in large cit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DiegowMural1924b.JPG (24659 bytes)"/>
          <p:cNvPicPr/>
          <p:nvPr/>
        </p:nvPicPr>
        <p:blipFill>
          <a:blip r:embed="rId1"/>
          <a:stretch/>
        </p:blipFill>
        <p:spPr>
          <a:xfrm>
            <a:off x="380880" y="304920"/>
            <a:ext cx="4977000" cy="630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410080" y="1371600"/>
            <a:ext cx="35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uralist Diego Rivera in front of one of his murals on a  government build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bigController3_c.JPG (52726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63560" y="228600"/>
            <a:ext cx="5818320" cy="6324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733920" y="58672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iego Rivera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The_Arsenal_1928d.JPG (666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6200" y="263520"/>
            <a:ext cx="7851600" cy="633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791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iego Rivera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Tenochtitlan_1945d.JPG (92501 bytes)"/>
          <p:cNvPicPr/>
          <p:nvPr/>
        </p:nvPicPr>
        <p:blipFill>
          <a:blip r:embed="rId1"/>
          <a:stretch/>
        </p:blipFill>
        <p:spPr>
          <a:xfrm>
            <a:off x="-1077840" y="0"/>
            <a:ext cx="10221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33520" y="54864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“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enochtitlan Marketplace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uralist:  Diego Rivera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arslatino.com/images/reportaje/jose_clemente_orozco.jpg"/>
          <p:cNvPicPr/>
          <p:nvPr/>
        </p:nvPicPr>
        <p:blipFill>
          <a:blip r:embed="rId1"/>
          <a:stretch/>
        </p:blipFill>
        <p:spPr>
          <a:xfrm>
            <a:off x="4724280" y="380880"/>
            <a:ext cx="39672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28600" y="990720"/>
            <a:ext cx="426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Conquest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www.hostelguadalajara.com/recursos/fotos/100-2420.JPG"/>
          <p:cNvPicPr/>
          <p:nvPr/>
        </p:nvPicPr>
        <p:blipFill>
          <a:blip r:embed="rId1"/>
          <a:stretch/>
        </p:blipFill>
        <p:spPr>
          <a:xfrm>
            <a:off x="3886200" y="304920"/>
            <a:ext cx="4908600" cy="6324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28600" y="1219320"/>
            <a:ext cx="358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idalgo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La riforma e la caduta dell'impero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4875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609480" y="51055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uarez and the Fall of the Empire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  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1446120" y="1630440"/>
            <a:ext cx="6251400" cy="3597120"/>
            <a:chOff x="1446120" y="1630440"/>
            <a:chExt cx="6251400" cy="3597120"/>
          </a:xfrm>
        </p:grpSpPr>
        <p:sp>
          <p:nvSpPr>
            <p:cNvPr id="75" name="Rectangle 4"/>
            <p:cNvSpPr/>
            <p:nvPr/>
          </p:nvSpPr>
          <p:spPr>
            <a:xfrm>
              <a:off x="1446120" y="1630440"/>
              <a:ext cx="6251400" cy="3597120"/>
            </a:xfrm>
            <a:prstGeom prst="rect">
              <a:avLst/>
            </a:prstGeom>
            <a:solidFill>
              <a:srgbClr val="d59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76" name="Rectangle 2"/>
            <p:cNvSpPr/>
            <p:nvPr/>
          </p:nvSpPr>
          <p:spPr>
            <a:xfrm>
              <a:off x="1446120" y="1630440"/>
              <a:ext cx="6251400" cy="3597120"/>
            </a:xfrm>
            <a:prstGeom prst="rect">
              <a:avLst/>
            </a:prstGeom>
            <a:solidFill>
              <a:srgbClr val="d59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Rockwell"/>
                </a:rPr>
                <a:t>  </a:t>
              </a:r>
              <a:r>
                <a:rPr b="0" i="1" lang="en-US" sz="19400" spc="-1" strike="noStrike">
                  <a:solidFill>
                    <a:srgbClr val="ffffff"/>
                  </a:solidFill>
                  <a:latin typeface="Rockwell"/>
                </a:rPr>
                <a:t> 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Rockwell"/>
                </a:rPr>
                <a:t>                                       </a:t>
              </a: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pic>
        <p:nvPicPr>
          <p:cNvPr id="77" name="Picture 3" descr="http://www.spin.com.mx/ilustrado/murales/gifs/da3.gif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04920" y="6019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 “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Revolution Against Porfirio Diaz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838080" y="5335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avid Siqueiro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Rockwell"/>
              </a:rPr>
              <a:t>Murals, a form of painting on a wall or rock surface, have a long and special history in Mexico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" name="Picture 3" descr="http://www.library.arizona.edu/images/cadena/perfect.jpg"/>
          <p:cNvPicPr/>
          <p:nvPr/>
        </p:nvPicPr>
        <p:blipFill>
          <a:blip r:embed="rId1"/>
          <a:stretch/>
        </p:blipFill>
        <p:spPr>
          <a:xfrm>
            <a:off x="304920" y="3962520"/>
            <a:ext cx="8458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La Trinchera, mural by Jose Clemente Orozco on the Eschula Nacional Preparatorio, Mexico City."/>
          <p:cNvPicPr/>
          <p:nvPr/>
        </p:nvPicPr>
        <p:blipFill>
          <a:blip r:embed="rId1"/>
          <a:stretch/>
        </p:blipFill>
        <p:spPr>
          <a:xfrm>
            <a:off x="4038480" y="304920"/>
            <a:ext cx="418644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8600" y="1447920"/>
            <a:ext cx="358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The Trench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38080" y="20574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Murals of Modern Mexico and Mexican Culture in America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getty.edu/artsednet/images/P/ofrenda-xl.jpeg"/>
          <p:cNvPicPr/>
          <p:nvPr/>
        </p:nvPicPr>
        <p:blipFill>
          <a:blip r:embed="rId1"/>
          <a:stretch/>
        </p:blipFill>
        <p:spPr>
          <a:xfrm>
            <a:off x="171360" y="434880"/>
            <a:ext cx="88012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685800" y="914400"/>
            <a:ext cx="7620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Rockwell"/>
                <a:hlinkClick r:id="rId1"/>
              </a:rPr>
              <a:t>Modern Mexican American Mural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5" name="Picture 7" descr="Stone and Waterjet - Murals, Ecclesiastical Icons, Animal Motifs, Representational Art - Mexican Restaurant Wall Mural"/>
          <p:cNvPicPr/>
          <p:nvPr/>
        </p:nvPicPr>
        <p:blipFill>
          <a:blip r:embed="rId2"/>
          <a:stretch/>
        </p:blipFill>
        <p:spPr>
          <a:xfrm>
            <a:off x="533520" y="297180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676520" y="1676520"/>
            <a:ext cx="5486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Rockwell"/>
                <a:hlinkClick r:id="rId3"/>
              </a:rPr>
              <a:t>Check This Out!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http://www.library.arizona.edu/images/cadena/pizzahut.jp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http://zalce.com/zalce/muralprocu.jpg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80880" y="76212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Your assignmen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Create a mural of your own life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Include significant events, images and pictures that will make it symbolic of your own personal culture and history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ake it colorful and meaningful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457200"/>
            <a:ext cx="8534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Some murals date back to 1000 B.C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Elaborate murals adorned the temples and sacred places in the cities.  They told the stories of the gods and goddesses and showed important ceremonies and scenes from everyday life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" name="Picture 3" descr="E:\PFiles\MSOffice\Clipart\standard\stddir4\PH02969J.jpg"/>
          <p:cNvPicPr/>
          <p:nvPr/>
        </p:nvPicPr>
        <p:blipFill>
          <a:blip r:embed="rId1"/>
          <a:stretch/>
        </p:blipFill>
        <p:spPr>
          <a:xfrm>
            <a:off x="2743200" y="4267080"/>
            <a:ext cx="342900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PFiles\MSOffice\Clipart\standard\stddir1\AN01950_.wmf"/>
          <p:cNvPicPr/>
          <p:nvPr/>
        </p:nvPicPr>
        <p:blipFill>
          <a:blip r:embed="rId2"/>
          <a:stretch/>
        </p:blipFill>
        <p:spPr>
          <a:xfrm>
            <a:off x="533520" y="5029200"/>
            <a:ext cx="150156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E:\PFiles\MSOffice\Clipart\standard\stddir4\TR00573_.wmf"/>
          <p:cNvPicPr/>
          <p:nvPr/>
        </p:nvPicPr>
        <p:blipFill>
          <a:blip r:embed="rId3"/>
          <a:stretch/>
        </p:blipFill>
        <p:spPr>
          <a:xfrm>
            <a:off x="6705720" y="4495680"/>
            <a:ext cx="1523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etail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www.raphaelk.co.uk/web%20pics/Mexico/Chichen%20Itza%20skulls.JPG"/>
          <p:cNvPicPr/>
          <p:nvPr/>
        </p:nvPicPr>
        <p:blipFill>
          <a:blip r:embed="rId1"/>
          <a:stretch/>
        </p:blipFill>
        <p:spPr>
          <a:xfrm>
            <a:off x="1606680" y="1000080"/>
            <a:ext cx="5932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iml.umkc.edu/art/faculty/wahlman/quizzes/Mayan/3TikalLintel/MayaTikalWoodenLintelB.jpg"/>
          <p:cNvPicPr/>
          <p:nvPr/>
        </p:nvPicPr>
        <p:blipFill>
          <a:blip r:embed="rId1"/>
          <a:stretch/>
        </p:blipFill>
        <p:spPr>
          <a:xfrm>
            <a:off x="1428840" y="11430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716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" name="Picture 4" descr="Sarcophagus Lid of Palenque plaque"/>
          <p:cNvPicPr/>
          <p:nvPr/>
        </p:nvPicPr>
        <p:blipFill>
          <a:blip r:embed="rId1"/>
          <a:stretch/>
        </p:blipFill>
        <p:spPr>
          <a:xfrm>
            <a:off x="2209680" y="380880"/>
            <a:ext cx="4496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2392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" name="Picture 4" descr="Aztec Indian Maya Vision Serpent Plaque - unpainted"/>
          <p:cNvPicPr/>
          <p:nvPr/>
        </p:nvPicPr>
        <p:blipFill>
          <a:blip r:embed="rId1"/>
          <a:stretch/>
        </p:blipFill>
        <p:spPr>
          <a:xfrm>
            <a:off x="2414520" y="304920"/>
            <a:ext cx="4519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ttp://iml.umkc.edu/art/faculty/wahlman/quizzes/MayaStela.b.jpg"/>
          <p:cNvPicPr/>
          <p:nvPr/>
        </p:nvPicPr>
        <p:blipFill>
          <a:blip r:embed="rId1"/>
          <a:stretch/>
        </p:blipFill>
        <p:spPr>
          <a:xfrm>
            <a:off x="2362320" y="304920"/>
            <a:ext cx="4190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6:18:35Z</dcterms:created>
  <dc:creator>BISD</dc:creator>
  <dc:description/>
  <dc:language>en-US</dc:language>
  <cp:lastModifiedBy>Beth Marat</cp:lastModifiedBy>
  <dcterms:modified xsi:type="dcterms:W3CDTF">2015-11-05T16:05:13Z</dcterms:modified>
  <cp:revision>15</cp:revision>
  <dc:subject/>
  <dc:title>PowerPoint Presentation</dc:title>
</cp:coreProperties>
</file>